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158-D6DE-4489-85D3-6BDA5942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282-21DF-48FF-8BDF-E5E1BBC9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7560-5149-4F13-A4C9-14B0533C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2E9-E250-4A3D-9B08-63AF5105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45F-1A93-4DB8-802A-BBBA87E1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FA4-E53F-4135-920E-8EC01A7F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599C-257F-48BE-BC97-73D00F48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35A-5E46-48C5-8476-BFF6B701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6C9-B440-4EEE-ABB3-C1C1F9DC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72A-EFE2-464A-97AA-2716610A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EFC-2A17-411C-B36F-6BE46FEA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707-08DE-424B-BB85-558C6CE7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A2D3-1B7C-44AB-BB51-DD5DB9DB0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3505320"/>
            <a:ext cx="7162920" cy="243828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2590920"/>
            <a:ext cx="7162920" cy="83808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838080"/>
            <a:ext cx="7162920" cy="167652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7668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@ Arthropod Genomics Sympo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7806600" y="14983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8174520" y="2812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78000" y="990720"/>
            <a:ext cx="4527720" cy="487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727360" y="838080"/>
            <a:ext cx="5654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rsday 7-9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Contributions to Genom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Elsik, Christopher Childers, Darren H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16240" y="1668600"/>
            <a:ext cx="6067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7:30-9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do Databases and Integration with GMO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in, Dave C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0" y="2590920"/>
            <a:ext cx="579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11:25-11:45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ated arthropod genes and ways to fi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8021520" y="4423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63000" y="3505320"/>
            <a:ext cx="4730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5-6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ative annotation of Drosophilid dicistronic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4041720"/>
            <a:ext cx="6340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urday 10-11:30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lete System For Community Genome An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: Database Resources for Emerging Model Org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ive genomics and database construction for Lepidopt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ocated Arthropod genes, and ways to find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Base: A genome resource for arthropod vectors of human pathog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ectorBase Manual and Community Annotation Submission pip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terflyBase: A framework for comparative genomics in butterflies and mo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6019920"/>
            <a:ext cx="3429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Got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2240" y="5791320"/>
            <a:ext cx="1255680" cy="923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960" y="762120"/>
            <a:ext cx="13406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Fle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tl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i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er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conius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Annot-L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08-04-09T18:43:59Z</cp:lastPrinted>
  <dcterms:modified xsi:type="dcterms:W3CDTF">2008-04-09T18:44:14Z</dcterms:modified>
  <cp:revision>12</cp:revision>
  <dc:subject/>
  <dc:title>PowerPoint Presentation</dc:title>
</cp:coreProperties>
</file>